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AC26-E0CE-49B0-8DE9-9D83D912982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DE4D-E4E1-43E2-ABDC-6630C60F134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nodo strateg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CB23-0F1E-4870-A320-3536C883ACC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DC1-0B27-46EE-B503-9A3B593E073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o studente deve immaginarsi la situazione, partendo dall’ipotesi di estrazione successive, parto da un calzino, poi due..così v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18C5-569A-48C5-BE1B-BFD747630AE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sempio di item con successo elevato, intorno all’80% delle risposte corrette per ogni item, con punte 8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DE38-15C1-4AEF-9CDE-83491C7590B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pazio eventi non equiprobabi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EF19-EA54-4E00-81CD-9DC0D9226C7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88B0-4CDF-42F5-87F5-D95A421D85E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Questo è stato l’esordio del mio prof di calcolo di prob all’uniPv- la smorfia interpreta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0047-F98E-4558-8EDF-38DAA2AC2C1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i sospende nel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D2C-3B4A-410B-8FE1-67242551C8E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iù facile” a noi non soddisfa. Preferiremmo utilizzare già la terminologia corretta, “più probabil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D204-3DF8-4D2F-886D-4BB06EE1BD6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otrebbe essere u test pre_attività dei dad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7A3B-35E3-42A9-9D8E-18CEA444FD9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a fallacia del gioca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D7AB-F810-4B72-B4A2-8EAC9CCBCB5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Tutto parte dal CIEAM bordeaux del 1974. commissione internazionale per lo studio e il  miglioramento della matematica.. Paradosso del compleanno, ricordiamoci di chiedere il giorno di nascita e m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9BFC-78BC-4481-9293-0DD78FD5D55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n un grupp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E57B-A5DD-4F8E-9B8B-B1B54AA62CD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Brousseau, CIEAM 74:”Una certa demistificazione, una certa comprensione e pratica della statistica e della probabilità è diventata per il cittadino, una delle condizioni per una società democratica e di conseguenza uno degli obiettivi della formazione.” Io direi l’obiettivo della formazi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5202-48B0-429C-A571-1F2535F6C6B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po ICME, international congress on mathematical education, cosa possiamo f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1F54-0F6C-463A-B60A-53DD1F8664E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306-3643-4090-9B33-236B371A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9D3-DB83-4B65-82E4-9E7D481E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F13-7AFE-4311-B58C-61F71C03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AEB-157C-42D3-8392-F56A9A4D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AEA-82D8-400A-8398-653D9DF8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8943-D394-4BDD-AE2A-9C4B5202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137D-9E77-48D4-B1CE-B411E79A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DB0C-C191-47CF-A093-B11F26E5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3000-8284-495C-8B5A-B0D5AE17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570-EABB-471F-97F2-8A5A463C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549E-9A80-409C-9EC9-76EAAA8F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C3F-1226-434E-BF96-424722EF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B03C-FBDD-4A5A-BFDA-EFEC598E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B6F2-F835-44A2-B149-E27564CD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C062-8215-477A-ABA0-C5AA4FF4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914B-352E-4194-8A7F-50CC8ED1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2394-386F-4EEA-8E68-4A47C534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73E61-91A1-44E3-AE64-F01BB5E6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CF5D-B612-47ED-B4A9-DA3FE4C5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A7CBC-3355-485C-98FF-465D5FE4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4220-9B20-448F-A1EC-FF2C21B8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3633-8D95-4ED3-9895-45EC8B64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0FA-1D4D-4450-AB7F-4B97943B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734A-A4ED-41BB-9EA4-399560C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0594-0F4C-4D52-B776-C2452E7B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1AD6-4A85-4EF5-83A4-7C661D0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F306-8FB7-4D5A-B110-C8C5BAB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4AB8-58F2-4011-880C-93DAE798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6061-7371-4C77-945E-24F42591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326D-0317-43C4-B1DD-220DC30C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8C467-F3DC-44FA-A222-50705F0F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7574-98F8-4BDB-B0BC-2B1CCA89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BE56F-5790-4C3F-9E32-7761BE6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069-B566-4B9F-9F8E-28010F1C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1A169-19BD-4EBE-BBDA-9416468E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DC1C3-3F60-406F-B1E7-6E5B7034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FA26-5D34-43C0-9B67-FBD7F1F4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BF75-859F-4624-9850-BBBD0B5B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7E16-2EA5-4DEB-A60E-DC3A170F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98D35-A0BB-4B1B-9A39-D43B394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C7C2-1F32-44D5-8C0E-AEFD310A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EF35-111E-4801-BB32-4FF1C295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1F0B-6B0D-419C-8F27-C32C59DD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9DE-02AE-4697-B574-7F74867D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2AC-D866-460C-8A10-E7E7528E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BB6-4262-40A0-8487-D003A889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13E-B30C-4EFD-B477-967EC706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59F-D5E0-4FDC-B604-100ECC94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9DB-30A9-4C21-B5CC-7D2539E83ED6}" type="datetime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8414-A437-4A7D-8060-8A3A1378A48D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5368-0C24-46E9-948C-60680355BE74}" type="datetime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2DB2-08FF-4174-9125-DA1B4367FFB4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6320-E5C4-4D3A-A64F-B696B704E90A}" type="datetime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5D46-305F-490C-A48A-7C01042E757C}" type="slidenum">
              <a:rPr b="0" lang="it-IT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86A6-8F77-4C25-ABB7-4CC5CCDEEBAE}" type="datetime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2E55-063F-4847-93C8-E17CD35EE495}" type="slidenum">
              <a:rPr b="0" lang="it-IT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olo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CORSO FORMAZION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Limbiat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nstantia"/>
              </a:rPr>
              <a:t>5/05/201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Segnaposto piè di pagina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er scuola primaria  cl. 3^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’alunno ricerca dati per ricavare informazioni e costruisce rappresentazioni (tabelle e grafic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conosce e quantifica, in casi semplici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ituazioni di incertez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egnaposto piè di pagina 3"/>
          <p:cNvSpPr/>
          <p:nvPr/>
        </p:nvSpPr>
        <p:spPr>
          <a:xfrm>
            <a:off x="248436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er la scuola primaria cl.5^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4000" y="1609200"/>
            <a:ext cx="701172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ltre ai punti già previsti per la classe terza: utilizzare le rappresentazioni per ricavare informazioni, formulare giudizi e prendere decisio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sare le nozioni di frequenza, di moda e di media aritmetica, se adeguata ai dati disponibi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Segnaposto piè di pagina 3"/>
          <p:cNvSpPr/>
          <p:nvPr/>
        </p:nvSpPr>
        <p:spPr>
          <a:xfrm>
            <a:off x="2556000" y="630864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Al termine della secondaria di primo grad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55280" y="1609200"/>
            <a:ext cx="69404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Nelle situazioni di incertezza (vita quotidiana, giochi,…) si orienta con valutazioni di probabili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Ha rafforzato un atteggiamento positivo rispetto alla matematica attraverso esperienze significative e ha capito come gli strumenti matematici appresi siano utili in molte situazioni per operare nella real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Obiettivi al termine del primo cicl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134120" cy="3744720"/>
          </a:xfrm>
          <a:prstGeom prst="rect">
            <a:avLst/>
          </a:prstGeom>
          <a:ln w="0">
            <a:noFill/>
          </a:ln>
        </p:spPr>
      </p:pic>
      <p:sp>
        <p:nvSpPr>
          <p:cNvPr id="247" name="Segnaposto piè di pagina 4"/>
          <p:cNvSpPr/>
          <p:nvPr/>
        </p:nvSpPr>
        <p:spPr>
          <a:xfrm>
            <a:off x="248436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E Invalsi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11280" y="1609560"/>
            <a:ext cx="70848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nche nelle prove Invalsi possiamo leggere la ricerca delle stesse competenze base sul calcolo delle probabilità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saper riconoscere uno spazio degli eventi, evento certo, evento impossibile, eventi equiprobabili, eventi non equiprobabi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Dalla banca dati Gestinv è facile vedere come spesso gli item con minor percentuale di successo siano proprio quelli sulla probabilità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v elementare 201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337080" cy="2162160"/>
          </a:xfrm>
          <a:prstGeom prst="rect">
            <a:avLst/>
          </a:prstGeom>
          <a:ln w="0">
            <a:noFill/>
          </a:ln>
        </p:spPr>
      </p:pic>
      <p:sp>
        <p:nvSpPr>
          <p:cNvPr id="253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633708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v elementare 201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556320" cy="3168360"/>
          </a:xfrm>
          <a:prstGeom prst="rect">
            <a:avLst/>
          </a:prstGeom>
          <a:ln w="0">
            <a:noFill/>
          </a:ln>
        </p:spPr>
      </p:pic>
      <p:sp>
        <p:nvSpPr>
          <p:cNvPr id="257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Invalsi 2013 V element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539640" y="1527120"/>
            <a:ext cx="6772320" cy="1943280"/>
          </a:xfrm>
          <a:prstGeom prst="rect">
            <a:avLst/>
          </a:prstGeom>
          <a:ln w="0">
            <a:noFill/>
          </a:ln>
        </p:spPr>
      </p:pic>
      <p:sp>
        <p:nvSpPr>
          <p:cNvPr id="260" name="Segnaposto piè di pagina 3"/>
          <p:cNvSpPr/>
          <p:nvPr/>
        </p:nvSpPr>
        <p:spPr>
          <a:xfrm>
            <a:off x="2411280" y="6381720"/>
            <a:ext cx="3657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539640" y="3470400"/>
            <a:ext cx="67690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V elementare 201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6986520" cy="2232000"/>
          </a:xfrm>
          <a:prstGeom prst="rect">
            <a:avLst/>
          </a:prstGeom>
          <a:ln w="0">
            <a:noFill/>
          </a:ln>
        </p:spPr>
      </p:pic>
      <p:sp>
        <p:nvSpPr>
          <p:cNvPr id="264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6983280" cy="27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V elementare 2015  d2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476360" y="1173240"/>
            <a:ext cx="5672160" cy="2423880"/>
          </a:xfrm>
          <a:prstGeom prst="rect">
            <a:avLst/>
          </a:prstGeom>
          <a:ln w="0">
            <a:noFill/>
          </a:ln>
        </p:spPr>
      </p:pic>
      <p:sp>
        <p:nvSpPr>
          <p:cNvPr id="268" name="Segnaposto piè di pa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1477800" y="3789360"/>
            <a:ext cx="568980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4617b"/>
                </a:solidFill>
                <a:latin typeface="Arial"/>
                <a:ea typeface="Arial"/>
              </a:rPr>
              <a:t>Giocate al lotto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04640" y="1196640"/>
            <a:ext cx="7344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Sulla ruota di Venezia manca il numero 87 da 113 settimane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Sulla ruota di Milano manca il numero 41 da 106 settimane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onviene che domani vada a giocare il numero 87 e il numero 41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onviene di più puntare sul numero 87 o sul 41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Oppure conviene di più puntare sul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23 (torta) e 17 (nonna) perché questa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notte, in sogno, mia nonna mi ha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offerto una torta?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  <a:ea typeface="Arial"/>
              </a:rPr>
              <a:t>C’è davvero “convenienza”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egnaposto piè di pagina 3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Immagine 5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17980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Risposte alla d2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33440" y="1981080"/>
            <a:ext cx="7238880" cy="3708360"/>
          </a:xfrm>
          <a:prstGeom prst="rect">
            <a:avLst/>
          </a:prstGeom>
          <a:ln w="0">
            <a:noFill/>
          </a:ln>
        </p:spPr>
      </p:pic>
      <p:sp>
        <p:nvSpPr>
          <p:cNvPr id="272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466560" y="3933720"/>
            <a:ext cx="425160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94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2011     1^media</a:t>
            </a:r>
            <a:r>
              <a:rPr b="0" lang="it-IT" sz="28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it-IT" sz="1800" spc="-1" strike="noStrike">
                <a:solidFill>
                  <a:srgbClr val="04617b"/>
                </a:solidFill>
                <a:latin typeface="Calibri"/>
              </a:rPr>
              <a:t>unico esempio di item probabilita’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6767280" cy="2592360"/>
          </a:xfrm>
          <a:prstGeom prst="rect">
            <a:avLst/>
          </a:prstGeom>
          <a:ln w="0">
            <a:noFill/>
          </a:ln>
        </p:spPr>
      </p:pic>
      <p:sp>
        <p:nvSpPr>
          <p:cNvPr id="276" name="Segnaposto piè di pagina 3"/>
          <p:cNvSpPr/>
          <p:nvPr/>
        </p:nvSpPr>
        <p:spPr>
          <a:xfrm>
            <a:off x="2843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67672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2015    3^ media   d1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6551640" cy="2879640"/>
          </a:xfrm>
          <a:prstGeom prst="rect">
            <a:avLst/>
          </a:prstGeom>
          <a:ln w="0">
            <a:noFill/>
          </a:ln>
        </p:spPr>
      </p:pic>
      <p:sp>
        <p:nvSpPr>
          <p:cNvPr id="280" name="Segnaposto piè di pagina 4"/>
          <p:cNvSpPr/>
          <p:nvPr/>
        </p:nvSpPr>
        <p:spPr>
          <a:xfrm>
            <a:off x="234000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655164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valsi  PN 201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193080" cy="2663640"/>
          </a:xfrm>
          <a:prstGeom prst="rect">
            <a:avLst/>
          </a:prstGeom>
          <a:ln w="0">
            <a:noFill/>
          </a:ln>
        </p:spPr>
      </p:pic>
      <p:sp>
        <p:nvSpPr>
          <p:cNvPr id="284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6191280" cy="275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2^elementare 2013: unico esempi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336000" cy="2460600"/>
          </a:xfrm>
          <a:prstGeom prst="rect">
            <a:avLst/>
          </a:prstGeom>
          <a:ln w="0">
            <a:noFill/>
          </a:ln>
        </p:spPr>
      </p:pic>
      <p:sp>
        <p:nvSpPr>
          <p:cNvPr id="288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CasellaDiTesto 5"/>
          <p:cNvSpPr/>
          <p:nvPr/>
        </p:nvSpPr>
        <p:spPr>
          <a:xfrm>
            <a:off x="1042920" y="4221000"/>
            <a:ext cx="626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: Mario dice che è più facile prendere una pallina bian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: Giorgia dice che è più facile prendere una pallina ner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: Luca dice che è facile allo stesso mod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sposta corretta: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ducare al pensiero probabilistico, leggere “facile” come “più probabile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”    discussione in merito al termine “facile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8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Cosa dice la ricerca didattica…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5280" y="1557000"/>
            <a:ext cx="6662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Nel lancio di due dadi, se si tiene conto della somma dei punti scommetteresti sul 7 o sul 10? Perché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Segnaposto piè di pagina 3"/>
          <p:cNvSpPr/>
          <p:nvPr/>
        </p:nvSpPr>
        <p:spPr>
          <a:xfrm>
            <a:off x="248436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63640" y="2492280"/>
          <a:ext cx="4367160" cy="3470400"/>
        </p:xfrm>
        <a:graphic>
          <a:graphicData uri="http://schemas.openxmlformats.org/drawingml/2006/table">
            <a:tbl>
              <a:tblPr/>
              <a:tblGrid>
                <a:gridCol w="1395360"/>
                <a:gridCol w="981360"/>
                <a:gridCol w="1000080"/>
                <a:gridCol w="990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le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dia (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ssuna rispo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sposta corret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sposta er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(10)=p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2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(10)&gt;p(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6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3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Passi progressiv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1280" y="1609560"/>
            <a:ext cx="70848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Occorre arrivare alla definizione di probabilità classica, partendo da attività che sviluppino la probabilità in senso frequentis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definizione non deve essere un punto di parten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Attività mirate a cogliere il concetto di evento, evento certo e impossibile, per arrivare allo spazio degli even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storia della nascita del calcolo è affascinante…perché non farl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egnaposto piè di pagina 3"/>
          <p:cNvSpPr/>
          <p:nvPr/>
        </p:nvSpPr>
        <p:spPr>
          <a:xfrm>
            <a:off x="2627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Attività per inizi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strazione palline numerate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strazione palline colorate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nnarelli color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ncio del dado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ncio del dad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passeggiata dell’ubriaco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La passeggiato dell’ubriaco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Modalità opera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’ necessario che la classe venga suddivisa in piccoli gruppi. Max 3 persone per gruppo. Sarebbe opportuno che, per meglio sfruttare le potenzialità del cooperative learning, ogni elemento del gruppo abbia un compito preci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Utilizzare il linguaggio specifico del calcolo probabilistico, per esempio parlando da subito di “evento”, di “più probabile” anziché “più facil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E in più, il valore aggiunto  dell’attività con schede Merl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n più possiamo allegare due schede Mer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r possedere un concetto occorre saper passare da una rappresentazione epistemologica ad un’al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noltre, si centra l’obiettivo dell’inclusione e si toccano tutte le Competenze Chiave di Cittadinanz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Lancio della Mone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1966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Lanciando 10 volte una moneta non truccata, quale sequenza è più probabile tra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C T T C T C C C 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T T T T T T T T 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T C T C T C T C T C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Constantia"/>
              </a:rPr>
              <a:t>La sequenza T T T T T T T T T T è l’esito di 10 lanci 10 di una moneta non truccata. Per l’undicesimo lancio conviene puntare su Testa o Croce?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egnaposto piè di pagina 3"/>
          <p:cNvSpPr/>
          <p:nvPr/>
        </p:nvSpPr>
        <p:spPr>
          <a:xfrm>
            <a:off x="248436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Immagine 4" descr=""/>
          <p:cNvPicPr/>
          <p:nvPr/>
        </p:nvPicPr>
        <p:blipFill>
          <a:blip r:embed="rId1"/>
          <a:stretch/>
        </p:blipFill>
        <p:spPr>
          <a:xfrm>
            <a:off x="4700520" y="1755720"/>
            <a:ext cx="28702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308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egnaposto piè di pagina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piè di pagin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Perché fare probabilità?</a:t>
            </a: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Dal congresso I.C.M.E.11, 2008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usa la propria esperienza per valutare la probabilità in modo molto casu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tratta l’informazione in modo parecchio incomple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tratta l’informazione lasciandosi influenzare dagli eventi salien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incontra grosse difficoltà nel valutare probabilità molto piccole o molto grand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egnaposto piè di pagina 3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Intermezzo: Scommettiamo che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6680" y="1096920"/>
            <a:ext cx="7069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nviene scommettere che almeno due di noi festeggiano il compleanno lo stesso giorn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egnaposto piè di pagina 3"/>
          <p:cNvSpPr/>
          <p:nvPr/>
        </p:nvSpPr>
        <p:spPr>
          <a:xfrm>
            <a:off x="2556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6" descr="http://gruppo.canovasport.it/piscinemonselice/wp-content/uploads/sites/3/2014/11/compleanno.png"/>
          <p:cNvPicPr/>
          <p:nvPr/>
        </p:nvPicPr>
        <p:blipFill>
          <a:blip r:embed="rId1"/>
          <a:stretch/>
        </p:blipFill>
        <p:spPr>
          <a:xfrm>
            <a:off x="2940120" y="2708280"/>
            <a:ext cx="2173320" cy="3327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s://upload.wikimedia.org/wikipedia/commons/thumb/6/67/Birthday_Paradox_IT.svg/350px-Birthday_Paradox_IT.svg.png"/>
          <p:cNvPicPr/>
          <p:nvPr/>
        </p:nvPicPr>
        <p:blipFill>
          <a:blip r:embed="rId2"/>
          <a:stretch/>
        </p:blipFill>
        <p:spPr>
          <a:xfrm>
            <a:off x="527040" y="2579760"/>
            <a:ext cx="3333600" cy="2143080"/>
          </a:xfrm>
          <a:prstGeom prst="rect">
            <a:avLst/>
          </a:prstGeom>
          <a:ln w="0">
            <a:noFill/>
          </a:ln>
        </p:spPr>
      </p:pic>
      <p:pic>
        <p:nvPicPr>
          <p:cNvPr id="221" name="CasellaDiTesto 5" descr=""/>
          <p:cNvPicPr/>
          <p:nvPr/>
        </p:nvPicPr>
        <p:blipFill>
          <a:blip r:embed="rId3"/>
          <a:stretch/>
        </p:blipFill>
        <p:spPr>
          <a:xfrm>
            <a:off x="4108320" y="2968560"/>
            <a:ext cx="3889440" cy="822240"/>
          </a:xfrm>
          <a:prstGeom prst="rect">
            <a:avLst/>
          </a:prstGeom>
          <a:ln w="0">
            <a:noFill/>
          </a:ln>
        </p:spPr>
      </p:pic>
      <p:sp>
        <p:nvSpPr>
          <p:cNvPr id="222" name="CasellaDiTesto 6"/>
          <p:cNvSpPr/>
          <p:nvPr/>
        </p:nvSpPr>
        <p:spPr>
          <a:xfrm>
            <a:off x="131040" y="5684760"/>
            <a:ext cx="66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In particolare, in un gruppo formato da più di 365 perso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l’evento è </a:t>
            </a:r>
            <a:r>
              <a:rPr b="1" lang="it-IT" sz="1800" spc="-1" strike="noStrike">
                <a:solidFill>
                  <a:srgbClr val="ff0000"/>
                </a:solidFill>
                <a:latin typeface="Constantia"/>
              </a:rPr>
              <a:t>certo</a:t>
            </a:r>
            <a:r>
              <a:rPr b="0" lang="it-IT" sz="18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CasellaDiTesto 12" descr=""/>
          <p:cNvPicPr/>
          <p:nvPr/>
        </p:nvPicPr>
        <p:blipFill>
          <a:blip r:embed="rId4"/>
          <a:stretch/>
        </p:blipFill>
        <p:spPr>
          <a:xfrm>
            <a:off x="493560" y="4834080"/>
            <a:ext cx="724248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Arial"/>
                <a:ea typeface="Arial"/>
              </a:rPr>
              <a:t>E ancora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6640"/>
            <a:ext cx="72388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non assegna probabilità 0 all’evento impossibile né la probabilità 1 a quello cer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ocia certezza e impossibilità a eventi fisici piuttosto che a quelli logic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egna le probabilità 50% e 50% ai due eventi legati al lancio di una qualsiasi mone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assegna equiprobabilità a situazioni sconosciu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si dimostra incoerente quando assegna e valuta probabilit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 gente comune si comporta in modo sovraddi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egnaposto piè di pagina 3"/>
          <p:cNvSpPr/>
          <p:nvPr/>
        </p:nvSpPr>
        <p:spPr>
          <a:xfrm>
            <a:off x="2627280" y="645336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Sfida: Noi non vogliamo essere la “gente comune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er questo è richiesto un  anticipo alla primaria del calcolo probabilis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Educare al pensiero probabilis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Come possiamo fa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Partiamo dai </a:t>
            </a:r>
            <a:r>
              <a:rPr b="0" i="1" lang="it-IT" sz="2600" spc="-1" strike="noStrike">
                <a:solidFill>
                  <a:srgbClr val="ff0000"/>
                </a:solidFill>
                <a:latin typeface="Constantia"/>
              </a:rPr>
              <a:t>probabili 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misconcetti e sulla possibilità di correggerli con opportune azioni didattich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Segnaposto piè di pagina 3"/>
          <p:cNvSpPr/>
          <p:nvPr/>
        </p:nvSpPr>
        <p:spPr>
          <a:xfrm>
            <a:off x="234000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1595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Dalle indicazioni nazionali</a:t>
            </a:r>
            <a:br>
              <a:rPr sz="4500"/>
            </a:b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per un percorso dall’infanzia in vertica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Segnaposto piè di pagina 8"/>
          <p:cNvSpPr/>
          <p:nvPr/>
        </p:nvSpPr>
        <p:spPr>
          <a:xfrm>
            <a:off x="2124000" y="623736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Immagine 3" descr=""/>
          <p:cNvPicPr/>
          <p:nvPr/>
        </p:nvPicPr>
        <p:blipFill>
          <a:blip r:embed="rId1"/>
          <a:stretch/>
        </p:blipFill>
        <p:spPr>
          <a:xfrm>
            <a:off x="592200" y="2133720"/>
            <a:ext cx="696924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4617b"/>
                </a:solidFill>
                <a:latin typeface="Calibri"/>
              </a:rPr>
              <a:t>Traguardi per lo sviluppo delle competenz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24000" y="2420640"/>
            <a:ext cx="723888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il bambino sa collocare le azioni quotidiane nel tempo della giornata e della settima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Riferisce correttamente eventi del passato recente e sa dire cosa potrà succedere in futu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egnaposto piè di pagina 4"/>
          <p:cNvSpPr/>
          <p:nvPr/>
        </p:nvSpPr>
        <p:spPr>
          <a:xfrm>
            <a:off x="2411280" y="63817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Arial"/>
                <a:ea typeface="Arial"/>
              </a:rPr>
              <a:t>Santina Fratti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08:59:12Z</dcterms:created>
  <dc:creator>Matteo Para</dc:creator>
  <dc:description/>
  <dc:language>en-US</dc:language>
  <cp:lastModifiedBy>Matteo Para</cp:lastModifiedBy>
  <dcterms:modified xsi:type="dcterms:W3CDTF">2016-05-05T14:52:58Z</dcterms:modified>
  <cp:revision>116</cp:revision>
  <dc:subject/>
  <dc:title>Preparare all’Invalsi attraverso Merlo</dc:title>
</cp:coreProperties>
</file>