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5CCC-7681-4594-806E-D89135865A2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38E2-458E-4D9D-B94B-5B0C34BBB50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nodo strateg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9D1-8E95-4FD4-B497-B3AAB179761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6AB5-5838-4F0E-9927-4B6B915813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o studente deve immaginarsi la situazione, partendo dall’ipotesi di estrazione successive, parto da un calzino, poi due..così v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37FE-36A4-4C36-A0BF-2F6DD450EA1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o di item con successo elevato, intorno all’80% delle risposte corrette per ogni item, con punte 8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7E11-FE95-4A54-B4E7-CFAB830EEAD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pazio eventi non equiprobabi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CFBC-0876-4B30-8B2C-E1BD447BE8B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E177-74A7-4E8D-A64E-C28F172AB6E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esto è stato l’esordio del mio prof di calcolo di prob all’uniPv- la smorfia interpreta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3FE7-5635-44F2-86CC-5AE8B1294EB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i sospende nel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5218-4D87-4141-99B0-3D94F239942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iù facile” a noi non soddisfa. Preferiremmo utilizzare già la terminologia corretta, “più probabil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8C7F-7983-43AC-A6FA-B0FFEFABE40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otrebbe essere u test pre_attività dei dad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A2FC-58D2-4D03-9C20-68A7F85E1F9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a fallacia del gioca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2D0C-66AD-45DF-8039-9CEAF9E72EB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utto parte dal CIEAM bordeaux del 1974. commissione internazionale per lo studio e il  miglioramento della matematica.. Paradosso del compleanno, ricordiamoci di chiedere il giorno di nascita e m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1479-BCA6-42CE-8A5F-B1DD1F5E8EF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 un grup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5F4A-C335-4667-8125-788A60E9655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Brousseau, CIEAM 74:”Una certa demistificazione, una certa comprensione e pratica della statistica e della probabilità è diventata per il cittadino, una delle condizioni per una società democratica e di conseguenza uno degli obiettivi della formazione.” Io direi l’obiettivo della formazi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D09-818D-4A15-B7AB-F25497C9178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po ICME, international congress on mathematical education, cosa possiamo f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8231-0616-4AC6-8D59-26840BD7930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8CE-E6CD-42D3-8120-DB01D5BA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A69-F72D-4B6B-9848-1D73F983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560-AE92-4FCD-B93B-37DD7445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466-D11B-4663-A954-BF5B6302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D7F3-EAA1-4A08-978D-F2A47BD1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76DA-4B79-47B0-975D-4804551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A323-065B-4037-A6BC-D6FEA632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FABA-539D-4FA3-9770-6F179344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82AC-5BC4-4157-9BDD-5ACEE5DB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9269-4292-451D-A918-204FB9AC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7704-309D-484A-B6B9-93F0BFEA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B5B-3EF8-4267-9C5F-6EEB2F18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5938-83EC-433B-B905-3A698F46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7B51-1415-4CF3-87BF-76795A4A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8938-F287-466B-ABDF-DA02DD07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E66C-E232-4AD5-856B-881E55A1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9867-2886-4F8C-BED4-1D3AD7A3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F25C-AF69-4C20-87C0-984CD954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40F9-115C-4854-860D-55F9620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9FBAB-3130-4376-8441-F558FB74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9CDC-CBE5-46DC-9DC1-2B69F770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BBC4-F9E6-4E1D-A710-DE5868F7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08D-DDD8-4853-B481-986D55D4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AF61-5D0A-4544-8062-9DDF73ED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F04F-0345-48C3-98C7-0A3BA3F5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A22C6-3152-471B-9C44-D7F92B89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E05B-A36E-4B64-B345-61EC3AA2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C7C5-AC3C-47AC-B28E-61FAA724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1F14-F98E-4772-A96D-A5BA7D33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4C54-4C98-4656-888C-D285CC1B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2F6F-3C70-4602-BD4A-F4FE9470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2047-BAE7-4F2C-B548-E94191E8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E778D-48F3-4E27-83D2-8367C6F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42F-83E9-4890-8E81-B2E95C6C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08DE-5F72-4593-A450-73EDFCD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147E-A3BB-46E0-AB35-58E629A8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5BC6-8508-40FB-BE66-537AF55F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4EB28-6596-4A6A-9570-25A1140A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B687-1521-432D-B086-1B4A9447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813E-1758-47D3-AA9A-236BAD4F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1913-8272-4EE1-A3A5-442181BB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5795-E7D4-4979-9FDD-17702023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A9F1-C817-4917-99E0-0A75A30B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5C3-EBDC-44FB-A18F-16E6AF44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054-A433-444C-934A-1A6A7A69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594-7131-44A8-967F-E4B6ECD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6E2-3C7B-4872-BA50-D0BCDAA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852-55B3-41FB-B661-A24C777D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16B9-1A15-4A15-8261-FB17ECB79363}" type="datetime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871F-2581-4B70-BBC8-1C8904821B9E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00E3-A19A-40B2-AEA6-1231AB53E5F7}" type="datetime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A59F-1396-4144-8F76-4E8509746FA5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07C8-6F97-4BA2-9DE3-20E4A87432FE}" type="datetime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4D2C-70AE-4565-B0A5-427270A30307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DFA6-8AEA-4FC6-8AC1-B35809467266}" type="datetime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1311-4353-40A9-9F66-C7F069D55C31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o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CORSO FORMAZION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Limbiat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5/05/201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Segnaposto piè di pagina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er scuola primaria  cl. 3^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’alunno ricerca dati per ricavare informazioni e costruisce rappresentazioni (tabelle e grafic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conosce e quantifica, in casi semplici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ituazioni di incertez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egnaposto piè di pagina 3"/>
          <p:cNvSpPr/>
          <p:nvPr/>
        </p:nvSpPr>
        <p:spPr>
          <a:xfrm>
            <a:off x="248436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er la scuola primaria cl.5^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000" y="1609200"/>
            <a:ext cx="701172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ltre ai punti già previsti per la classe terza: utilizzare le rappresentazioni per ricavare informazioni, formulare giudizi e prendere decisio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sare le nozioni di frequenza, di moda e di media aritmetica, se adeguata ai dati disponibi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egnaposto piè di pagina 3"/>
          <p:cNvSpPr/>
          <p:nvPr/>
        </p:nvSpPr>
        <p:spPr>
          <a:xfrm>
            <a:off x="2556000" y="630864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Al termine della secondaria di primo grad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55280" y="1609200"/>
            <a:ext cx="69404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Nelle situazioni di incertezza (vita quotidiana, giochi,…) si orienta con valutazioni di probabili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Ha rafforzato un atteggiamento positivo rispetto alla matematica attraverso esperienze significative e ha capito come gli strumenti matematici appresi siano utili in molte situazioni per operare nella real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Obiettivi al termine del primo cicl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134120" cy="3744720"/>
          </a:xfrm>
          <a:prstGeom prst="rect">
            <a:avLst/>
          </a:prstGeom>
          <a:ln w="0">
            <a:noFill/>
          </a:ln>
        </p:spPr>
      </p:pic>
      <p:sp>
        <p:nvSpPr>
          <p:cNvPr id="247" name="Segnaposto piè di pagina 4"/>
          <p:cNvSpPr/>
          <p:nvPr/>
        </p:nvSpPr>
        <p:spPr>
          <a:xfrm>
            <a:off x="248436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E Invalsi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11280" y="1609560"/>
            <a:ext cx="70848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nche nelle prove Invalsi possiamo leggere la ricerca delle stesse competenze base sul calcolo delle probabilità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aper riconoscere uno spazio degli eventi, evento certo, evento impossibile, eventi equiprobabili, eventi non equiprobabi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Dalla banca dati Gestinv è facile vedere come spesso gli item con minor percentuale di successo siano proprio quelli sulla probabili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v elementare 201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337080" cy="2162160"/>
          </a:xfrm>
          <a:prstGeom prst="rect">
            <a:avLst/>
          </a:prstGeom>
          <a:ln w="0">
            <a:noFill/>
          </a:ln>
        </p:spPr>
      </p:pic>
      <p:sp>
        <p:nvSpPr>
          <p:cNvPr id="253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633708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v elementare 201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556320" cy="3168360"/>
          </a:xfrm>
          <a:prstGeom prst="rect">
            <a:avLst/>
          </a:prstGeom>
          <a:ln w="0">
            <a:noFill/>
          </a:ln>
        </p:spPr>
      </p:pic>
      <p:sp>
        <p:nvSpPr>
          <p:cNvPr id="257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2013 V element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39640" y="1527120"/>
            <a:ext cx="6772320" cy="1943280"/>
          </a:xfrm>
          <a:prstGeom prst="rect">
            <a:avLst/>
          </a:prstGeom>
          <a:ln w="0">
            <a:noFill/>
          </a:ln>
        </p:spPr>
      </p:pic>
      <p:sp>
        <p:nvSpPr>
          <p:cNvPr id="260" name="Segnaposto piè di pagina 3"/>
          <p:cNvSpPr/>
          <p:nvPr/>
        </p:nvSpPr>
        <p:spPr>
          <a:xfrm>
            <a:off x="2411280" y="6381720"/>
            <a:ext cx="3657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39640" y="3470400"/>
            <a:ext cx="67690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V elementare 201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6986520" cy="2232000"/>
          </a:xfrm>
          <a:prstGeom prst="rect">
            <a:avLst/>
          </a:prstGeom>
          <a:ln w="0">
            <a:noFill/>
          </a:ln>
        </p:spPr>
      </p:pic>
      <p:sp>
        <p:nvSpPr>
          <p:cNvPr id="264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6983280" cy="27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V elementare 2015  d2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476360" y="1173240"/>
            <a:ext cx="5672160" cy="2423880"/>
          </a:xfrm>
          <a:prstGeom prst="rect">
            <a:avLst/>
          </a:prstGeom>
          <a:ln w="0">
            <a:noFill/>
          </a:ln>
        </p:spPr>
      </p:pic>
      <p:sp>
        <p:nvSpPr>
          <p:cNvPr id="268" name="Segnaposto piè di pa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1477800" y="3789360"/>
            <a:ext cx="568980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Arial"/>
                <a:ea typeface="Arial"/>
              </a:rPr>
              <a:t>Giocate al lotto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04640" y="1196640"/>
            <a:ext cx="7344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Sulla ruota di Venezia manca il numero 87 da 113 settimane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Sulla ruota di Milano manca il numero 41 da 106 settiman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onviene che domani vada a giocare il numero 87 e il numero 41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onviene di più puntare sul numero 87 o sul 41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Oppure conviene di più puntare sul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23 (torta) e 17 (nonna) perché questa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notte, in sogno, mia nonna mi ha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offerto una torta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’è davvero “convenienza”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egnaposto piè di pagina 3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Immagine 5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17980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Risposte alla d2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33440" y="1981080"/>
            <a:ext cx="7238880" cy="3708360"/>
          </a:xfrm>
          <a:prstGeom prst="rect">
            <a:avLst/>
          </a:prstGeom>
          <a:ln w="0">
            <a:noFill/>
          </a:ln>
        </p:spPr>
      </p:pic>
      <p:sp>
        <p:nvSpPr>
          <p:cNvPr id="272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466560" y="3933720"/>
            <a:ext cx="425160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2011     1^media</a:t>
            </a:r>
            <a:r>
              <a:rPr b="0" lang="it-IT" sz="28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it-IT" sz="1800" spc="-1" strike="noStrike">
                <a:solidFill>
                  <a:srgbClr val="04617b"/>
                </a:solidFill>
                <a:latin typeface="Calibri"/>
              </a:rPr>
              <a:t>unico esempio di item probabilita’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6767280" cy="2592360"/>
          </a:xfrm>
          <a:prstGeom prst="rect">
            <a:avLst/>
          </a:prstGeom>
          <a:ln w="0">
            <a:noFill/>
          </a:ln>
        </p:spPr>
      </p:pic>
      <p:sp>
        <p:nvSpPr>
          <p:cNvPr id="276" name="Segnaposto piè di pagina 3"/>
          <p:cNvSpPr/>
          <p:nvPr/>
        </p:nvSpPr>
        <p:spPr>
          <a:xfrm>
            <a:off x="2843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67672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2015    3^ media   d1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6551640" cy="2879640"/>
          </a:xfrm>
          <a:prstGeom prst="rect">
            <a:avLst/>
          </a:prstGeom>
          <a:ln w="0">
            <a:noFill/>
          </a:ln>
        </p:spPr>
      </p:pic>
      <p:sp>
        <p:nvSpPr>
          <p:cNvPr id="280" name="Segnaposto piè di pagina 4"/>
          <p:cNvSpPr/>
          <p:nvPr/>
        </p:nvSpPr>
        <p:spPr>
          <a:xfrm>
            <a:off x="234000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65516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 PN 201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193080" cy="2663640"/>
          </a:xfrm>
          <a:prstGeom prst="rect">
            <a:avLst/>
          </a:prstGeom>
          <a:ln w="0">
            <a:noFill/>
          </a:ln>
        </p:spPr>
      </p:pic>
      <p:sp>
        <p:nvSpPr>
          <p:cNvPr id="284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6191280" cy="27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2^elementare 2013: unico esempi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336000" cy="2460600"/>
          </a:xfrm>
          <a:prstGeom prst="rect">
            <a:avLst/>
          </a:prstGeom>
          <a:ln w="0">
            <a:noFill/>
          </a:ln>
        </p:spPr>
      </p:pic>
      <p:sp>
        <p:nvSpPr>
          <p:cNvPr id="288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CasellaDiTesto 5"/>
          <p:cNvSpPr/>
          <p:nvPr/>
        </p:nvSpPr>
        <p:spPr>
          <a:xfrm>
            <a:off x="1042920" y="4221000"/>
            <a:ext cx="626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: Mario dice che è più facile prendere una pallina bian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: Giorgia dice che è più facile prendere una pallina ner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: Luca dice che è facile allo stesso mo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posta corretta: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ducare al pensiero probabilistico, leggere “facile” come “più probabile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”    discussione in merito al termine “facile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Cosa dice la ricerca didattica…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5280" y="1557000"/>
            <a:ext cx="6662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Nel lancio di due dadi, se si tiene conto della somma dei punti scommetteresti sul 7 o sul 10? Perché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Segnaposto piè di pagina 3"/>
          <p:cNvSpPr/>
          <p:nvPr/>
        </p:nvSpPr>
        <p:spPr>
          <a:xfrm>
            <a:off x="248436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63640" y="2492280"/>
          <a:ext cx="4367160" cy="3470400"/>
        </p:xfrm>
        <a:graphic>
          <a:graphicData uri="http://schemas.openxmlformats.org/drawingml/2006/table">
            <a:tbl>
              <a:tblPr/>
              <a:tblGrid>
                <a:gridCol w="1395360"/>
                <a:gridCol w="981360"/>
                <a:gridCol w="1000080"/>
                <a:gridCol w="990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dia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ssuna rispo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sposta corret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sposta 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(10)=p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(10)&gt;p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assi progressi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1280" y="1609560"/>
            <a:ext cx="70848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ccorre arrivare alla definizione di probabilità classica, partendo da attività che sviluppino la probabilità in senso frequentis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definizione non deve essere un punto di parten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ttività mirate a cogliere il concetto di evento, evento certo e impossibile, per arrivare allo spazio degli even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storia della nascita del calcolo è affascinante…perché non farl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Attività per inizi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strazione palline numerate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strazione palline colorate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nnarelli color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ncio del dado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ncio del dad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passeggiata dell’ubriaco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passeggiato dell’ubriac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Modalità opera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’ necessario che la classe venga suddivisa in piccoli gruppi. Max 3 persone per gruppo. Sarebbe opportuno che, per meglio sfruttare le potenzialità del cooperative learning, ogni elemento del gruppo abbia un compito preci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tilizzare il linguaggio specifico del calcolo probabilistico, per esempio parlando da subito di “evento”, di “più probabile” anziché “più facil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E in più, il valore aggiunto  dell’attività con schede Merl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n più possiamo allegare due schede Mer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r possedere un concetto occorre saper passare da una rappresentazione epistemologica ad un’al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noltre, si centra l’obiettivo dell’inclusione e si toccano tutte le Competenze Chiave di Cittadinanz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Lancio della Mone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196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Lanciando 10 volte una moneta non truccata, quale sequenza è più probabile tr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C T T C T C C C 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T T T T T T T T 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C T C T C T C T C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La sequenza T T T T T T T T T T è l’esito di 10 lanci 10 di una moneta non truccata. Per l’undicesimo lancio conviene puntare su Testa o Croce?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egnaposto piè di pagina 3"/>
          <p:cNvSpPr/>
          <p:nvPr/>
        </p:nvSpPr>
        <p:spPr>
          <a:xfrm>
            <a:off x="248436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Immagine 4" descr=""/>
          <p:cNvPicPr/>
          <p:nvPr/>
        </p:nvPicPr>
        <p:blipFill>
          <a:blip r:embed="rId1"/>
          <a:stretch/>
        </p:blipFill>
        <p:spPr>
          <a:xfrm>
            <a:off x="4700520" y="1755720"/>
            <a:ext cx="28702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08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piè di pa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Perché fare probabilità?</a:t>
            </a: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Dal congresso I.C.M.E.11, 2008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usa la propria esperienza per valutare la probabilità in modo molto casu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tratta l’informazione in modo parecchio incomple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tratta l’informazione lasciandosi influenzare dagli eventi salien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incontra grosse difficoltà nel valutare probabilità molto piccole o molto grand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egnaposto piè di pagina 3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termezzo: Scommettiamo che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6680" y="1096920"/>
            <a:ext cx="7069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nviene scommettere che almeno due di noi festeggiano il compleanno lo stesso giorn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6" descr="http://gruppo.canovasport.it/piscinemonselice/wp-content/uploads/sites/3/2014/11/compleanno.png"/>
          <p:cNvPicPr/>
          <p:nvPr/>
        </p:nvPicPr>
        <p:blipFill>
          <a:blip r:embed="rId1"/>
          <a:stretch/>
        </p:blipFill>
        <p:spPr>
          <a:xfrm>
            <a:off x="2940120" y="2708280"/>
            <a:ext cx="2173320" cy="332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s://upload.wikimedia.org/wikipedia/commons/thumb/6/67/Birthday_Paradox_IT.svg/350px-Birthday_Paradox_IT.svg.png"/>
          <p:cNvPicPr/>
          <p:nvPr/>
        </p:nvPicPr>
        <p:blipFill>
          <a:blip r:embed="rId2"/>
          <a:stretch/>
        </p:blipFill>
        <p:spPr>
          <a:xfrm>
            <a:off x="527040" y="2579760"/>
            <a:ext cx="3333600" cy="2143080"/>
          </a:xfrm>
          <a:prstGeom prst="rect">
            <a:avLst/>
          </a:prstGeom>
          <a:ln w="0">
            <a:noFill/>
          </a:ln>
        </p:spPr>
      </p:pic>
      <p:pic>
        <p:nvPicPr>
          <p:cNvPr id="221" name="CasellaDiTesto 5" descr=""/>
          <p:cNvPicPr/>
          <p:nvPr/>
        </p:nvPicPr>
        <p:blipFill>
          <a:blip r:embed="rId3"/>
          <a:stretch/>
        </p:blipFill>
        <p:spPr>
          <a:xfrm>
            <a:off x="4108320" y="2968560"/>
            <a:ext cx="3889440" cy="822240"/>
          </a:xfrm>
          <a:prstGeom prst="rect">
            <a:avLst/>
          </a:prstGeom>
          <a:ln w="0">
            <a:noFill/>
          </a:ln>
        </p:spPr>
      </p:pic>
      <p:sp>
        <p:nvSpPr>
          <p:cNvPr id="222" name="CasellaDiTesto 6"/>
          <p:cNvSpPr/>
          <p:nvPr/>
        </p:nvSpPr>
        <p:spPr>
          <a:xfrm>
            <a:off x="131040" y="5684760"/>
            <a:ext cx="66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In particolare, in un gruppo formato da più di 365 perso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l’evento è </a:t>
            </a:r>
            <a:r>
              <a:rPr b="1" lang="it-IT" sz="1800" spc="-1" strike="noStrike">
                <a:solidFill>
                  <a:srgbClr val="ff0000"/>
                </a:solidFill>
                <a:latin typeface="Constantia"/>
              </a:rPr>
              <a:t>certo</a:t>
            </a: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CasellaDiTesto 12" descr=""/>
          <p:cNvPicPr/>
          <p:nvPr/>
        </p:nvPicPr>
        <p:blipFill>
          <a:blip r:embed="rId4"/>
          <a:stretch/>
        </p:blipFill>
        <p:spPr>
          <a:xfrm>
            <a:off x="493560" y="4834080"/>
            <a:ext cx="724248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E ancora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6640"/>
            <a:ext cx="72388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non assegna probabilità 0 all’evento impossibile né la probabilità 1 a quello cer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ocia certezza e impossibilità a eventi fisici piuttosto che a quelli logic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egna le probabilità 50% e 50% ai due eventi legati al lancio di una qualsiasi mone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egna equiprobabilità a situazioni sconosciu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si dimostra incoerente quando assegna e valuta probabilit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si comporta in modo sovraddi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egnaposto piè di pagina 3"/>
          <p:cNvSpPr/>
          <p:nvPr/>
        </p:nvSpPr>
        <p:spPr>
          <a:xfrm>
            <a:off x="262728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Sfida: Noi non vogliamo essere la “gente comune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r questo è richiesto un  anticipo alla primaria del calcolo probabilis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ducare al pensiero probabilis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me possiamo fa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artiamo dai </a:t>
            </a:r>
            <a:r>
              <a:rPr b="0" i="1" lang="it-IT" sz="2600" spc="-1" strike="noStrike">
                <a:solidFill>
                  <a:srgbClr val="ff0000"/>
                </a:solidFill>
                <a:latin typeface="Constantia"/>
              </a:rPr>
              <a:t>probabili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misconcetti e sulla possibilità di correggerli con opportune azioni didattic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egnaposto piè di pagina 3"/>
          <p:cNvSpPr/>
          <p:nvPr/>
        </p:nvSpPr>
        <p:spPr>
          <a:xfrm>
            <a:off x="2340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1595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Dalle indicazioni nazionali</a:t>
            </a: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per un percorso dall’infanzia in vertica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Segnaposto piè di pagina 8"/>
          <p:cNvSpPr/>
          <p:nvPr/>
        </p:nvSpPr>
        <p:spPr>
          <a:xfrm>
            <a:off x="2124000" y="623736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Immagine 3" descr=""/>
          <p:cNvPicPr/>
          <p:nvPr/>
        </p:nvPicPr>
        <p:blipFill>
          <a:blip r:embed="rId1"/>
          <a:stretch/>
        </p:blipFill>
        <p:spPr>
          <a:xfrm>
            <a:off x="592200" y="2133720"/>
            <a:ext cx="696924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Traguardi per lo sviluppo delle competenz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4000" y="2420640"/>
            <a:ext cx="723888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bambino sa collocare le azioni quotidiane nel tempo della giornata e della settima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ferisce correttamente eventi del passato recente e sa dire cosa potrà succedere in futu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egnaposto piè di pagina 4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08:59:12Z</dcterms:created>
  <dc:creator>Matteo Para</dc:creator>
  <dc:description/>
  <dc:language>en-US</dc:language>
  <cp:lastModifiedBy>Matteo Para</cp:lastModifiedBy>
  <dcterms:modified xsi:type="dcterms:W3CDTF">2016-05-05T14:52:58Z</dcterms:modified>
  <cp:revision>116</cp:revision>
  <dc:subject/>
  <dc:title>Preparare all’Invalsi attraverso Merlo</dc:title>
</cp:coreProperties>
</file>